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F9E-708B-4834-B5BB-B196E7E7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9DD-BE73-4F4A-914E-33F5BE8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176-021D-41E6-B8A8-CFEF8826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53D-4D12-4FC7-AC48-D21C9038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5247-41D6-4AFB-946C-D98FB253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EC6C-09F8-4526-9506-F3C244D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DE25-416D-42BF-801D-4D4A34A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EADC-AEF3-4E7B-8FE0-04D73BD1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9FBE-F419-499A-80AA-EA34FAB0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37A-247C-4138-A014-B3FC9AD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F317-5C72-44DA-BA29-9447F058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46B-2B20-48FA-A120-D291EC69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F458-C0CB-468F-B873-169C202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4EA5-513F-4F9F-8292-098C3E7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FC9-A5E6-4F22-84B7-24362894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442B-5BC1-4912-9F83-920E69E1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E44F-C9EF-45B8-BF79-B17A942D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6960-0159-4BAD-82B1-1252993D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81A5-CF5A-442C-A60A-4BCE71C4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84D53-3D87-46CE-869E-8238E98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E568-E13A-455D-81CE-25626030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9E22-1633-433F-8BA7-611706E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F79-9C9C-4424-BD62-618801EB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800C-A593-429E-A303-13F1764B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0751-07F6-4B19-B8E4-76F03AF7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498A-ABE6-4A4F-9C7C-0DEAEF8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0AE9-404C-4D9D-82DC-2196FCF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1705-F130-471E-ABF1-0EF351EF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C7F3-E88A-4985-8324-EC913E0D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BC15-C89C-4794-BEF5-1E0EFE75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94A-7BE4-48E9-8315-85F0D49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8E9-7FC9-478D-A170-65B61CB8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40A-AEDA-4713-AA36-B4006B8B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B63-11FC-4CF4-ABAF-39B9902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879-0138-41B5-8F0E-AD721471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C8C-AE15-431C-B2BA-BAFAB58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A644-87D0-4F19-A126-2FF776D1982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42A1-EFFD-47BE-8804-74EAAAF1DC75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2D4E-5449-47CE-995C-F94DB4F24A61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chem4kids.com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hyperlink" Target="http://www.chem4kids.com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33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5.png"/><Relationship Id="rId5" Type="http://schemas.openxmlformats.org/officeDocument/2006/relationships/image" Target="../media/image45.png"/><Relationship Id="rId6" Type="http://schemas.openxmlformats.org/officeDocument/2006/relationships/image" Target="../media/image33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33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2.png"/><Relationship Id="rId3" Type="http://schemas.openxmlformats.org/officeDocument/2006/relationships/image" Target="../media/image39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33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40.png"/><Relationship Id="rId5" Type="http://schemas.openxmlformats.org/officeDocument/2006/relationships/image" Target="../media/image58.png"/><Relationship Id="rId6" Type="http://schemas.openxmlformats.org/officeDocument/2006/relationships/image" Target="../media/image33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4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7724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Transition metals in the periodic table"/>
          <p:cNvPicPr/>
          <p:nvPr/>
        </p:nvPicPr>
        <p:blipFill>
          <a:blip r:embed="rId2"/>
          <a:stretch/>
        </p:blipFill>
        <p:spPr>
          <a:xfrm>
            <a:off x="609480" y="22860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095880" y="19810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ition Metals have slightly different rules for shells and valence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095880" y="4038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s something you will learn about in High School Chemi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276360" cy="3230640"/>
          </a:xfrm>
          <a:prstGeom prst="rect">
            <a:avLst/>
          </a:prstGeom>
          <a:ln w="0">
            <a:noFill/>
          </a:ln>
        </p:spPr>
      </p:pic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4260960" cy="92736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" descr=""/>
          <p:cNvPicPr/>
          <p:nvPr/>
        </p:nvPicPr>
        <p:blipFill>
          <a:blip r:embed="rId4"/>
          <a:stretch/>
        </p:blipFill>
        <p:spPr>
          <a:xfrm>
            <a:off x="609480" y="2511360"/>
            <a:ext cx="3724560" cy="4698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6" descr=""/>
          <p:cNvPicPr/>
          <p:nvPr/>
        </p:nvPicPr>
        <p:blipFill>
          <a:blip r:embed="rId5"/>
          <a:stretch/>
        </p:blipFill>
        <p:spPr>
          <a:xfrm>
            <a:off x="6168960" y="3425760"/>
            <a:ext cx="2279880" cy="12067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8"/>
          <p:cNvCxnSpPr/>
          <p:nvPr/>
        </p:nvCxnSpPr>
        <p:spPr>
          <a:xfrm>
            <a:off x="1143000" y="2971440"/>
            <a:ext cx="99144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Straight Arrow Connector 9"/>
          <p:cNvCxnSpPr/>
          <p:nvPr/>
        </p:nvCxnSpPr>
        <p:spPr>
          <a:xfrm>
            <a:off x="1141920" y="2971800"/>
            <a:ext cx="114372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14"/>
          <p:cNvCxnSpPr/>
          <p:nvPr/>
        </p:nvCxnSpPr>
        <p:spPr>
          <a:xfrm flipH="1">
            <a:off x="3504600" y="4113720"/>
            <a:ext cx="251532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Straight Arrow Connector 17"/>
          <p:cNvCxnSpPr/>
          <p:nvPr/>
        </p:nvCxnSpPr>
        <p:spPr>
          <a:xfrm flipH="1">
            <a:off x="4114440" y="4114800"/>
            <a:ext cx="1829520" cy="9151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Straight Arrow Connector 19"/>
          <p:cNvCxnSpPr/>
          <p:nvPr/>
        </p:nvCxnSpPr>
        <p:spPr>
          <a:xfrm flipH="1">
            <a:off x="4190760" y="4114800"/>
            <a:ext cx="1829520" cy="7668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21"/>
          <p:cNvCxnSpPr/>
          <p:nvPr/>
        </p:nvCxnSpPr>
        <p:spPr>
          <a:xfrm flipH="1" flipV="1">
            <a:off x="3504600" y="3504600"/>
            <a:ext cx="2515320" cy="6102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TextBox 10"/>
          <p:cNvSpPr/>
          <p:nvPr/>
        </p:nvSpPr>
        <p:spPr>
          <a:xfrm>
            <a:off x="5715000" y="617220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8fbf"/>
                </a:solidFill>
                <a:uFillTx/>
                <a:latin typeface="Verdana"/>
                <a:hlinkClick r:id="rId6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dium Orbital Graphic"/>
          <p:cNvPicPr/>
          <p:nvPr/>
        </p:nvPicPr>
        <p:blipFill>
          <a:blip r:embed="rId1"/>
          <a:stretch/>
        </p:blipFill>
        <p:spPr>
          <a:xfrm>
            <a:off x="1371600" y="3067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84" name="Title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3" descr=""/>
          <p:cNvPicPr/>
          <p:nvPr/>
        </p:nvPicPr>
        <p:blipFill>
          <a:blip r:embed="rId3"/>
          <a:stretch/>
        </p:blipFill>
        <p:spPr>
          <a:xfrm>
            <a:off x="2054160" y="1523880"/>
            <a:ext cx="4962600" cy="92736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5" descr=""/>
          <p:cNvPicPr/>
          <p:nvPr/>
        </p:nvPicPr>
        <p:blipFill>
          <a:blip r:embed="rId4"/>
          <a:stretch/>
        </p:blipFill>
        <p:spPr>
          <a:xfrm>
            <a:off x="609480" y="2511360"/>
            <a:ext cx="3681360" cy="46980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6" descr=""/>
          <p:cNvPicPr/>
          <p:nvPr/>
        </p:nvPicPr>
        <p:blipFill>
          <a:blip r:embed="rId5"/>
          <a:stretch/>
        </p:blipFill>
        <p:spPr>
          <a:xfrm>
            <a:off x="5559480" y="2816280"/>
            <a:ext cx="2262240" cy="120636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8"/>
          <p:cNvCxnSpPr/>
          <p:nvPr/>
        </p:nvCxnSpPr>
        <p:spPr>
          <a:xfrm>
            <a:off x="1066680" y="2971800"/>
            <a:ext cx="144864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9"/>
          <p:cNvCxnSpPr/>
          <p:nvPr/>
        </p:nvCxnSpPr>
        <p:spPr>
          <a:xfrm>
            <a:off x="1066680" y="2971440"/>
            <a:ext cx="45792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21"/>
          <p:cNvCxnSpPr/>
          <p:nvPr/>
        </p:nvCxnSpPr>
        <p:spPr>
          <a:xfrm flipH="1" flipV="1">
            <a:off x="3047400" y="3200040"/>
            <a:ext cx="2439000" cy="216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traight Arrow Connector 15"/>
          <p:cNvCxnSpPr/>
          <p:nvPr/>
        </p:nvCxnSpPr>
        <p:spPr>
          <a:xfrm>
            <a:off x="1066680" y="2971440"/>
            <a:ext cx="99144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8fbf"/>
                </a:solidFill>
                <a:uFillTx/>
                <a:latin typeface="Verdana"/>
                <a:hlinkClick r:id="rId6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724200" cy="46332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085760" cy="46332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" descr=""/>
          <p:cNvPicPr/>
          <p:nvPr/>
        </p:nvPicPr>
        <p:blipFill>
          <a:blip r:embed="rId7"/>
          <a:stretch/>
        </p:blipFill>
        <p:spPr>
          <a:xfrm>
            <a:off x="838080" y="3809880"/>
            <a:ext cx="26481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468600" cy="46332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865160" cy="46332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7"/>
          <a:stretch/>
        </p:blipFill>
        <p:spPr>
          <a:xfrm>
            <a:off x="990720" y="4038480"/>
            <a:ext cx="22096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724200" cy="4633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841400" cy="46332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703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– matter made up of only one kind 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115-120 known el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0 naturally occurring elements, plus synthetic elements -  made by scientis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681360" cy="4633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231920" cy="46332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7"/>
          <a:stretch/>
        </p:blipFill>
        <p:spPr>
          <a:xfrm>
            <a:off x="7621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676680" cy="46332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987560" cy="46332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7"/>
          <a:stretch/>
        </p:blipFill>
        <p:spPr>
          <a:xfrm>
            <a:off x="685800" y="3886200"/>
            <a:ext cx="2776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4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468600" cy="46332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407960" cy="463320"/>
          </a:xfrm>
          <a:prstGeom prst="rect">
            <a:avLst/>
          </a:prstGeom>
          <a:ln w="0">
            <a:noFill/>
          </a:ln>
        </p:spPr>
      </p:pic>
      <p:pic>
        <p:nvPicPr>
          <p:cNvPr id="25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667240" cy="26478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9"/>
          <p:cNvSpPr/>
          <p:nvPr/>
        </p:nvSpPr>
        <p:spPr>
          <a:xfrm>
            <a:off x="3886200" y="4419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um is the exception in Group 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has just one shell, that shell can only fit 2 electrons instead of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n this group because all the elements have a full outer sh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31082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2051"/>
                </a:solidFill>
                <a:latin typeface="Verdana"/>
                <a:ea typeface="Verdana"/>
              </a:rPr>
              <a:t>End of Study Gui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Table – a chart that organizes and displays information about the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ic number – the top number in the element’s periodic table blo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ls the number of protons in the nucleus of each atom of that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mber of protons remains constant in every atom of an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top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toms of the same element that have different numbers of neutr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ss numb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number of protons plus number of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tomic mas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the number found below the element sym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ighted average mass of an atom of an el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unit used for atomic mass i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omic mass un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is given the symbol “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or 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1.67377 x 10 </a:t>
            </a:r>
            <a:r>
              <a:rPr b="0" lang="fr-FR" sz="2200" spc="-1" strike="noStrike" baseline="30000">
                <a:solidFill>
                  <a:srgbClr val="000000"/>
                </a:solidFill>
                <a:latin typeface="Verdana"/>
              </a:rPr>
              <a:t>-24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gra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-33480" y="3276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fall into three general groups characterized by similar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s – most of th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iny 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conductors of heat and electr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re solids at room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leable, or can be sha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ctile, or can be drawn into wir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nmet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on the right side of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ll in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or conductors of heat and electri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are gase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ittle, cannot change shape 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7% of the human body is made up of nonmet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alloi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between the metals and nonmetals on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characteristics of both metals and non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conduct heat and electricity as well as 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re solid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609480" y="512640"/>
            <a:ext cx="2590920" cy="925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Periodic Table showing Periods"/>
          <p:cNvPicPr/>
          <p:nvPr/>
        </p:nvPicPr>
        <p:blipFill>
          <a:blip r:embed="rId2"/>
          <a:stretch/>
        </p:blipFill>
        <p:spPr>
          <a:xfrm>
            <a:off x="380880" y="2438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6576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called a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5" descr=""/>
          <p:cNvPicPr/>
          <p:nvPr/>
        </p:nvPicPr>
        <p:blipFill>
          <a:blip r:embed="rId3"/>
          <a:stretch/>
        </p:blipFill>
        <p:spPr>
          <a:xfrm>
            <a:off x="5065560" y="2286000"/>
            <a:ext cx="3700440" cy="4636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6" descr=""/>
          <p:cNvPicPr/>
          <p:nvPr/>
        </p:nvPicPr>
        <p:blipFill>
          <a:blip r:embed="rId4"/>
          <a:stretch/>
        </p:blipFill>
        <p:spPr>
          <a:xfrm>
            <a:off x="5078520" y="2895480"/>
            <a:ext cx="3852720" cy="46368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7" descr=""/>
          <p:cNvPicPr/>
          <p:nvPr/>
        </p:nvPicPr>
        <p:blipFill>
          <a:blip r:embed="rId5"/>
          <a:stretch/>
        </p:blipFill>
        <p:spPr>
          <a:xfrm>
            <a:off x="5072040" y="3425760"/>
            <a:ext cx="3913200" cy="46980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8" descr=""/>
          <p:cNvPicPr/>
          <p:nvPr/>
        </p:nvPicPr>
        <p:blipFill>
          <a:blip r:embed="rId6"/>
          <a:stretch/>
        </p:blipFill>
        <p:spPr>
          <a:xfrm>
            <a:off x="5048280" y="4035600"/>
            <a:ext cx="3913200" cy="469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3657600" y="12193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s in each period have the same number of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066680" y="380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200400" cy="115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Periodic Table showing Groups"/>
          <p:cNvPicPr/>
          <p:nvPr/>
        </p:nvPicPr>
        <p:blipFill>
          <a:blip r:embed="rId2"/>
          <a:stretch/>
        </p:blipFill>
        <p:spPr>
          <a:xfrm>
            <a:off x="457200" y="25909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5638680" y="2590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olumn is called a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638680" y="335268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element in a group has the same number of electrons in their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8" descr=""/>
          <p:cNvPicPr/>
          <p:nvPr/>
        </p:nvPicPr>
        <p:blipFill>
          <a:blip r:embed="rId3"/>
          <a:stretch/>
        </p:blipFill>
        <p:spPr>
          <a:xfrm>
            <a:off x="682560" y="1444680"/>
            <a:ext cx="3968640" cy="46980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10"/>
          <p:cNvCxnSpPr/>
          <p:nvPr/>
        </p:nvCxnSpPr>
        <p:spPr>
          <a:xfrm flipH="1">
            <a:off x="837360" y="1980720"/>
            <a:ext cx="22932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6" name="Rectangle 13" descr=""/>
          <p:cNvPicPr/>
          <p:nvPr/>
        </p:nvPicPr>
        <p:blipFill>
          <a:blip r:embed="rId4"/>
          <a:stretch/>
        </p:blipFill>
        <p:spPr>
          <a:xfrm>
            <a:off x="1371600" y="1981080"/>
            <a:ext cx="3962520" cy="46368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14"/>
          <p:cNvCxnSpPr/>
          <p:nvPr/>
        </p:nvCxnSpPr>
        <p:spPr>
          <a:xfrm flipH="1">
            <a:off x="1218600" y="2437920"/>
            <a:ext cx="61020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Rectangle 16" descr=""/>
          <p:cNvPicPr/>
          <p:nvPr/>
        </p:nvPicPr>
        <p:blipFill>
          <a:blip r:embed="rId5"/>
          <a:stretch/>
        </p:blipFill>
        <p:spPr>
          <a:xfrm>
            <a:off x="4724280" y="762120"/>
            <a:ext cx="3962520" cy="463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17"/>
          <p:cNvCxnSpPr/>
          <p:nvPr/>
        </p:nvCxnSpPr>
        <p:spPr>
          <a:xfrm flipH="1">
            <a:off x="5180760" y="1218960"/>
            <a:ext cx="83916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20"/>
          <p:cNvSpPr/>
          <p:nvPr/>
        </p:nvSpPr>
        <p:spPr>
          <a:xfrm>
            <a:off x="6324480" y="1752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Except for He, it has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5-Point Star 21"/>
          <p:cNvSpPr/>
          <p:nvPr/>
        </p:nvSpPr>
        <p:spPr>
          <a:xfrm>
            <a:off x="4952880" y="274320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-Point Star 23"/>
          <p:cNvSpPr/>
          <p:nvPr/>
        </p:nvSpPr>
        <p:spPr>
          <a:xfrm>
            <a:off x="5943600" y="18288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4"/>
          <p:cNvSpPr/>
          <p:nvPr/>
        </p:nvSpPr>
        <p:spPr>
          <a:xfrm>
            <a:off x="5638680" y="53341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lectrons in the outer shell are called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vale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electrons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tangle 18" descr=""/>
          <p:cNvPicPr/>
          <p:nvPr/>
        </p:nvPicPr>
        <p:blipFill>
          <a:blip r:embed="rId6"/>
          <a:stretch/>
        </p:blipFill>
        <p:spPr>
          <a:xfrm>
            <a:off x="3273480" y="2657520"/>
            <a:ext cx="1755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dc:language>en-US</dc:language>
  <cp:lastModifiedBy>St. Aloysius</cp:lastModifiedBy>
  <dcterms:modified xsi:type="dcterms:W3CDTF">2012-12-11T15:46:41Z</dcterms:modified>
  <cp:revision>57</cp:revision>
  <dc:subject/>
  <dc:title>Slide 1</dc:title>
</cp:coreProperties>
</file>